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956-6F2E-41C3-85DF-D43C09A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F54-043A-49C4-A5C3-A7434B2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C06-C59F-4566-8371-D83F0A68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A4B-9C93-439C-985A-5E0C39D5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7228-1CC4-4EDC-A49E-9662ABF0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B68E-FE49-4023-A72D-E706001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075-140C-4220-A443-22386D4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7BC-36F3-4B81-BE48-F505D7A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4AF-C20C-4B5B-90D2-AC4513C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2FD1-8D06-4435-AD6C-874EE7F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8A1C-D7A8-43CB-B048-33E15DC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969-1752-4827-9385-37F2FE37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018-27FF-40E6-BF5F-C50C9D7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5B3-4655-4C0B-8E14-11A660E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216-C8A9-4737-AC49-BC406FA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876-FEB8-48E7-AFA8-19F42567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FAB-8A37-42BE-B3E4-AA7AD2E4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2B4-0814-4E5E-AA73-E9E48BD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990-BA36-4AF6-99A2-9A67275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6DC-ED58-45EA-B8ED-12567D9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A16-6A43-4206-AD54-BDBAD847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EEC-8800-4F89-B913-57338D4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9AE-6AEC-4AB7-BE78-3C887EB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150-B993-4EA3-9F8D-D237CD5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97A-E99C-466D-8A10-2A3F28B9E3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9AB-7EC5-4E09-8F2E-65F00FA44E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ltiple Choice Ski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ical Reading &amp; Thinking Skills v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ic &amp; Lu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ve Mental Attitu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positively – You can do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 nervousnes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alert – sleep and food hel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your strengths and weakn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iminate Careless Err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questions carefully and complet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your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second guess your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your answers for missing, mismarked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Phases of Objective Test Ta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1 – Answer the questions you know first (builds confidence and helps your scor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2 – Review the other questions and identify and eliminate answers that you know are incorr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3 – Make your best guess using critical thin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absolute words – always, never, ex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clues in the wording of the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decoys (new words, new nam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Ski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regularly – too much + too late = too confuse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test as a source – information usually exists in the test to help answer other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 all the ques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, READ, READ, the question – one word skipped may lead you down the wrong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4:55:47Z</dcterms:created>
  <dc:creator> </dc:creator>
  <dc:description/>
  <dc:language>en-US</dc:language>
  <cp:lastModifiedBy> </cp:lastModifiedBy>
  <dcterms:modified xsi:type="dcterms:W3CDTF">2007-09-12T12:00:58Z</dcterms:modified>
  <cp:revision>2</cp:revision>
  <dc:subject/>
  <dc:title>Multiple Choice Skills</dc:title>
</cp:coreProperties>
</file>